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DF0-6BAF-45AA-9710-A604CB0E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3CE-9E00-4D09-8883-49BB4D3E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1BB8B-3EB8-4F3F-82B8-46C6EF6C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F8A70-A7C0-4D15-8910-CEF5C78A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E0052-AD7D-4092-86DB-1C77072D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EDC0A-31D9-4D40-B5F4-8060FB1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99569-A64E-4C6D-8402-1E01A49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3FB02-ACD6-4DF5-87E5-C564DEF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B5F46-BFD1-4EBA-8CFA-BFD15EE0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CC3B-A6D5-4139-AB54-0F3689BE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B5B50-E18C-4236-A7C0-BD645188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92EFF-9610-47AF-8951-B0D8AEF7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CAF-5596-4CEC-BAF8-FDD6A028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DC1C8-D0F1-4360-88A6-A2F36E41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14172-EFFF-4254-AFD2-6C1B7D4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9AB13-768F-4C78-A9B5-77E89D58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7988B-D417-4EC2-AE87-E16B0CD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9E865-F977-4EDD-8C1C-D1AC749F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1420B-1390-4C8E-B064-9F720BC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266B0-B948-4FE4-80BC-245C5EF1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C1B15-E100-4F05-936F-046B097C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0CEF4-D0DA-4B8D-908B-3CBEC135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5C87C-703B-4DA6-B958-0E58222E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F85-7208-4700-93FB-F4946019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39115-BA4B-43A5-91CD-37C4E2F4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1A64D-38E7-4631-9BB5-56AC9A56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9E4FF-743F-486B-B646-C8BDBEAA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6C4CB-419D-4ABE-A8D0-64B75FB5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91475-3418-49A0-B7EC-C28A35C9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A7F3A-0A6C-4343-BBA9-4D3B7B60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9AA70-BB9E-4695-9E1C-4070094E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24BD7-9A11-40FD-A3C9-FB861AC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A3D2A-79F3-4A77-B755-2334280D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BC5AD-DE40-47A6-A57A-2DBB111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5EA8-1BD3-4AA4-BEE9-F882DDC1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4BF7-AE03-4A3E-93C1-93D27F8A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D2499-66A1-4717-9083-739E72D5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BE17D-D32E-4213-9924-FE5EAE2B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725E7-D206-4DB7-9D71-E00CA61B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EDB96-8C3E-47BD-8F8D-0002BD7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45C74-C86A-41F8-A2D4-52706ABE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202FE-D196-428D-A973-92A64111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5E95D-C23D-4333-B7B1-C7D7CC28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AD80D-87F7-4873-A7AB-D65B8AA7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7F427-438A-4AA0-9E9C-B38A4B30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EF46-3F10-468E-A7BA-A883B8B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3488B-603E-440B-98AD-1547CFA3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66C7F-3394-4D27-9966-3070658A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A0B29-DE78-41C8-9ABF-B966B50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707A2-F9F7-4131-B4CC-1B49B52A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71377-874F-4F5B-AE94-AD02F512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285BE-7D50-489D-89A6-B1C49FD0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98E03-7656-4430-8C5E-DDD34BE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B8CFE-487E-45A3-9953-53902A0B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B6FE6-D3A2-4D01-A87D-4E1002D7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A1CF3-0601-4805-864E-4429455F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4D82-951D-4B64-A60F-2A95D2A2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A0DDA-54AE-4072-B46A-0B04FCFF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FCAAE-A5CE-4679-9DEB-D2F8B2A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58B89-056F-47CB-B204-76684FC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9E7A5-5499-4F74-AC88-2D8EFE62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B2B93-C069-4794-BDAD-33E0EE09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C8241-046F-45F0-A020-0601EC30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0D482-D802-4361-8CC6-DCF69415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4E96-E28A-4DFD-8B3A-23A2A795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D3A78-A020-4050-B9C7-2DBD549D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37954-06CD-45F0-B506-288B1714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A7BD-6B09-4091-8598-01696936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232AD-6703-4C12-BE79-803293EF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36AEA-04AF-4C73-817F-14FA7B0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08B54-4E80-474E-BA3A-B531F668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D4E6C-77CA-4454-ABE6-53DEA8DC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14062-A72E-47A5-BF15-75964BF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81704-FE76-48F2-BD73-E0838CD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46736-EF9B-4C97-82EF-05B2E874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0E304-63FA-47CD-8B9D-46FE143F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2C0B9-AD2E-447A-825F-571AFC13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EA81D-93A5-4A18-8330-08F343D0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EBC3-7E88-43A8-8174-38BE256F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7D103-4E2A-4D0F-A056-2E6DB2BD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DF276-6A6E-457A-8A3D-AADFA58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7A0F8-CC91-40EC-A4E9-8725615C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3C2E4-A340-4CF3-AA98-A9D19132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A3E79-5986-42C7-A170-793A928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ED935-FA28-4EF7-A8E6-1B296410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2B58E-748A-47A5-93A9-ABDBA5C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94E37-0DEE-4C7A-A64C-03078534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2E21F-EC95-425A-AC8C-F863AC6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A4DBF-472C-43D1-83F7-82841689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5ECF-7E02-4E8B-94E7-2D1A4FFE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53A2F-7514-479B-9CFF-E2651834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38C15-123A-4FEE-A666-3E75F742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FF235-C74F-45D8-94D6-35FDC95D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9302C-6C54-4184-9919-6417494C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0C33D-237A-4879-B2DE-D683E4D5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1AE8B-1D9E-4F62-AE06-AEC8B7E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23779-7EEC-4301-A4AA-DA071E3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3FCF0-8A35-49C9-AE9E-9885DA3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D00A00-AF1A-4183-B9D4-6148B5E5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23FBD-6BDC-4F82-94A8-9946309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657F-22BE-4082-BFB3-C18824F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DF3B50-F2CE-439C-83EA-369439D7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D5880-2D29-4C4B-BFC5-D97B9C27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EFA7A-E84E-49C9-96DD-31E408A8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853D1-2320-454D-8D23-DFAE22A4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C6EBC-6C3D-4651-9962-51BB06A8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D8F53B-9AAA-463E-8FB4-F55BF61A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535967-1DFE-4BFD-8BC5-E1EEA4C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17E4D-57A7-45DC-8869-6E04973E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A7B33-712C-407C-B1FB-3C16EFA4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7D34C-92BC-4FC7-BA48-33B1418D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62F-0722-4CA4-89E1-2A23CA53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FF1A-CBCE-426D-8A1F-0EDC4558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99577-10AF-4450-B83E-7D230B67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7B02C-62FF-44A7-804E-1861569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B89D9-2CD6-493D-810F-A46DF46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E476D-3C36-4833-AD6D-1999B474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7E7B0-EFC7-4298-9EC6-5B4E3355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AB75F-30C5-488E-A44A-A70CFCB1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621B1-AB10-43B7-AB94-ABDEDB5D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48914-04E3-4F19-8D13-DC6BEC72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51442-E739-4BF4-9D1F-8B14DF2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9BA1DF-1CA2-4C0E-87C6-04DE256D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4FA7-FF2D-4E74-B8D9-66AB2C5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4E5C5-6FAB-42F0-B4D8-A5604CA9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681B1-5F21-49A9-B45F-E022F67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12D55-23A0-496B-B112-B2A7FCF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95CFC-4C35-4D53-B2D9-E3B7BF5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9FF74-595E-4D10-AB18-BC268643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D9F06-AC6E-4E79-A82D-52715C52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6C46C-F93A-4BE7-960F-C44106BD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CE004-C6F5-4DA5-BB8C-11000B4F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2FFF8-F6CB-4DFA-B4A8-F97DB86F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8D74D-F49D-45E9-9C81-F9343BB3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6619-BB9A-4094-AC0F-E3C7F98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3C0C7-434E-4257-8D40-600273CD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5FD4A-5AAB-432A-A7A5-34B2576B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9C1D8-6536-443D-AC71-83755C74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EE072-A4D4-40DF-9C3C-BD2336CA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9B809-6AB7-4E73-B380-CC005DE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8092C-FDF0-4F7A-856A-BF1D24BA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59A1E-32E0-4CE4-804D-9312BE8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46E1C-DE71-4EDF-A40F-F9629702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ACA88-1DAC-4A7D-9A31-EE76A6BD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91C2D9-463F-4450-A464-617D85E8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0173-2CA8-442D-A8C4-DBF62AA6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62272-BCB9-4055-AFC2-30B9BA9C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BC6C35-C566-4725-99A8-2AFC8B6C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D839C-A93B-4156-8A20-23AD1B9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8AC74-3B8D-4185-BB65-269BB95C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ECAEBB-CD4B-473E-9509-9E3F0F4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C331E-4B9E-4276-BA5E-DF740DE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CEFB4-DBAF-40B6-8052-BCE8616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BB552-062B-44DB-B65F-FC58D47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797DA-7EC9-443C-8D49-E3708F9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9EC99-DAAB-4584-900F-1423225F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EAC4-F23B-4D90-A0CA-BF7D98D5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42E90-9147-4623-9A04-CB248E6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C73F9-4CFA-47F6-9396-A289378B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D39176-344C-4559-AB62-3A6CF678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AD284-0E3D-4D68-8BAA-B3017FBC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6E235-AAA9-410C-B70F-1B012859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6D9D1D-934A-49C2-A87C-6C08816B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3647AB-D36D-4E57-95C5-CC25195E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43B0C-29DD-4186-BBF2-57D5A23B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5B9B3D-B7CB-457D-B688-C10A039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6C631-BC29-4454-A3CD-9EFE4B92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D65E-C420-457F-B959-904148D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D04D90-6648-4B3E-9BF1-E3CB2C9C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925249-9165-4A48-87A7-9902BBD6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8C792-41AB-4E11-AA30-2CAD5E4B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CC39D-D927-415F-81C8-FDD752A3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2CBD9-41D7-4DB4-8FF8-0329A308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B97C-1502-4F9C-A31F-BB4385EB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91C02-B788-4DFC-A3DC-84BF5B43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C35-D3EF-4F2D-9F20-C091D72B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E5D2-CD11-4121-AEDD-42C004F9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1405-46AE-4540-AF72-5DDC2F29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543A-CCD8-441F-B0D9-8B756232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5044-3485-4B51-9757-08F3BF1B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B8AB-2073-45C0-9497-5B58F06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AA79-A86A-4600-B3C9-CB114C44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93EC-656F-4A1C-BC31-023859ED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F8C5-AF9E-407D-B687-7A1514D8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24D0-DA16-4EE1-8B72-A71D190A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7824-D9AF-4B31-AC5F-0D78DC2B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06B-09D1-4DBE-9D5C-BEBC6433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3CB74-69C6-40B4-AA05-DD6E38ED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B572-943F-4515-942F-B14CA99B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E7BB8-09E4-49CD-BB8C-BA0EC08B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A4A8-A7AE-41DD-A933-5EB275F8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F9DE-20CB-4152-83A3-48AFFFF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A7BB-D443-4563-9B23-3054713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D6ED-B1CF-4BE3-B49B-D2442D87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2B08-6B6A-4FC4-85E8-44CFBCC3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7BAB-918A-4FE6-869E-027D9ACE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7C6C9-ABF2-413B-832B-C872A05E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63D-3109-4011-826F-17A5517E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46CF6-2884-4205-9C8B-3C5A414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E994D-42D4-4244-A1AC-AE129356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D00D4-3D26-4B73-8572-B29B08C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5BA5-EB0B-429F-B7A3-61AFC257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7777D-BB0D-40DC-9667-E5C2AA7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3F0C-7D0D-465F-ACC5-C349D80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B9B2-FB0F-44F3-B4C3-7639B1D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5FEA9-5527-4028-8A1A-8574531F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5719D-5E3E-42EE-A850-F5776A0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91B8-EE6F-4A2F-A021-AEEC8CB0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7DD-3077-4ABE-97FC-D03BF626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C0D6-FA88-45A0-AF0D-2C0AAD88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58C80-5CA1-4235-BCB8-9E56D1B9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E2B9E-0250-4CAA-A707-210242E9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450D-D2CA-4694-93CC-CAAD0FAD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552D-149D-4257-88EC-DDE98458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8F71F-8627-4102-A6EA-EE13A98F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C634-4682-417B-A8EF-20B92A99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AE67-3710-4C98-9511-05DB749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CCA78-8DF6-42F9-A585-ADB0746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D1BA-E3DB-470D-A826-9D14B4B2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90E-D9EE-4F83-8CF9-4804047C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85AAA-72AC-4E08-945A-89620F48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5A82-1685-4E3C-A100-AF1AD7D9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ED60-D25C-4A9C-AC1B-82ABD982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52597-763B-4C9D-AFD6-D47959A5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60BAB-B8F5-4B32-AAFE-4F526039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B243D-0FFD-42F8-97EF-92E7DC88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FA226-D0BF-47FB-96F6-634CE78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2F61-2C0C-4418-B929-1A054FD5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C37D6-CCD4-4A9E-B9F9-F727D65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F7901-2B65-43C8-97FE-2A1C1DBC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D17-4BDD-4DD9-B5F0-9402E3BA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50EE-DC04-450F-83F2-E207D7FD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426CD-4123-4B64-A0B6-4E8FB1E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5534-7345-4009-8B65-854C975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13514-672D-4C40-A776-9073D59C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53C4B-9E9E-49FC-9244-895C01E4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5C3E9-6BDF-4E5C-87FE-79A3B2FE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CA2F6-FE7D-4D47-AFA2-755B1E1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CD9DD-70EC-45FC-B265-234DBC90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9AF94-B136-46AD-893B-C815D2ED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0FFD3-07C2-4630-83BA-5F91876A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569-C826-4D4C-923E-F3471C91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40BD-202C-49C8-9D00-4FBA99AB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D1B52-617F-4BA5-A3B0-644E8664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5CB7B-F56C-45F0-8A7D-E304F6D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F606E-F773-4F64-A758-9C54912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84DB5-6722-4AF6-BF22-B0DDE336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693AE-C28F-4498-80A4-9759E312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F893-D66C-49AD-A9F0-A4E2CB6E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E2AB0-6D82-46B8-94DF-539007E7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AB0A0-5651-4678-8A89-CF849D9B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467DA-5DD5-4FC3-8491-57E887B0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68E4-550C-411A-9D3F-F697A4905F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B1DF-4B6C-43D8-B7FA-2FA1A76B8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76C1-9CCE-4C76-AC9E-6CEF2B289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0C8-CCD9-4AD7-A6CC-CE477184C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462A-4726-44AA-A4F2-7E67487856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2CAB-24D0-4FE9-9CDD-D8A790C93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BB66-EF62-41BB-BE82-DC30C0C23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7AA-213B-4DCF-93C1-85F6ED4E4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1388-3B89-4BBB-B8E4-C1AD0393F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38C2-2F22-458A-A2B3-A9062440E6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0B34-5EC0-401D-BDF4-0F30DA9C9D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515D-8F50-4033-8AEF-CC85464803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DD16-7D8A-4DD3-888C-C922235764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1AB2-3399-40FC-AA03-FCB36E461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1189-D441-4A24-9D45-854914BEB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8B9C-545F-4CB6-8DA2-575472732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58FC-71E6-4EBC-A80C-45A6DD318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A7AE-1353-4F48-B75C-CD76A8F5E0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5EA0-666C-4DF4-9453-547E5AB4A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542-A501-445E-B296-B2C5F7801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1B63-3B0B-4C73-B278-700C38DDF3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04C9-909A-4657-9C60-0DF9972094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1891-601C-4E23-8DB4-9E317B1073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E02D-9155-4B5E-98E4-273CBFC4E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0EA9-4F84-40A5-8047-036D529E1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4836-BCBC-459F-A57A-55ABF27CB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6DE-C189-47D6-835F-209A276AA7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0207-241A-44A0-9E6D-FFC2E2270E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E13-8F9A-453E-924E-2112DBAD81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2AD-614D-4EE5-8CCF-681EA9C388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898-54C0-4F01-8020-C54A34271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ABC8-3AD6-406F-9929-F393EF0865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907C-DCAE-4225-B532-4A84FE3DB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D9A-7B09-4636-BA65-B49FDC15A2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5F3-0E4F-4EBC-91C1-57D758ED36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2793-73D7-4AA2-993D-304528003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4F82-6196-41B8-9815-3401D2625A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5173-8281-4929-A52C-5A6A112ED8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15D3-D404-4042-AF4B-515292156C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4BAB-F849-435F-A72E-F9B588B8FF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76520" y="3233880"/>
            <a:ext cx="399096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619200" y="1371600"/>
            <a:ext cx="7905600" cy="4114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997360" y="370692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780000" y="270828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500720" y="321300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219640" y="371628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12000" y="270828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732720" y="321300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6" descr=""/>
          <p:cNvPicPr/>
          <p:nvPr/>
        </p:nvPicPr>
        <p:blipFill>
          <a:blip r:embed="rId9"/>
          <a:stretch/>
        </p:blipFill>
        <p:spPr>
          <a:xfrm>
            <a:off x="1268280" y="46594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7" descr=""/>
          <p:cNvPicPr/>
          <p:nvPr/>
        </p:nvPicPr>
        <p:blipFill>
          <a:blip r:embed="rId10"/>
          <a:stretch/>
        </p:blipFill>
        <p:spPr>
          <a:xfrm>
            <a:off x="3357720" y="46576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8" descr=""/>
          <p:cNvPicPr/>
          <p:nvPr/>
        </p:nvPicPr>
        <p:blipFill>
          <a:blip r:embed="rId11"/>
          <a:stretch/>
        </p:blipFill>
        <p:spPr>
          <a:xfrm>
            <a:off x="542592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0439" descr=""/>
          <p:cNvPicPr/>
          <p:nvPr/>
        </p:nvPicPr>
        <p:blipFill>
          <a:blip r:embed="rId12"/>
          <a:stretch/>
        </p:blipFill>
        <p:spPr>
          <a:xfrm>
            <a:off x="7380360" y="46483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0" descr=""/>
          <p:cNvPicPr/>
          <p:nvPr/>
        </p:nvPicPr>
        <p:blipFill>
          <a:blip r:embed="rId13"/>
          <a:stretch/>
        </p:blipFill>
        <p:spPr>
          <a:xfrm>
            <a:off x="1273320" y="5099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60441" descr=""/>
          <p:cNvPicPr/>
          <p:nvPr/>
        </p:nvPicPr>
        <p:blipFill>
          <a:blip r:embed="rId14"/>
          <a:stretch/>
        </p:blipFill>
        <p:spPr>
          <a:xfrm>
            <a:off x="3348000" y="5094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60442" descr=""/>
          <p:cNvPicPr/>
          <p:nvPr/>
        </p:nvPicPr>
        <p:blipFill>
          <a:blip r:embed="rId15"/>
          <a:stretch/>
        </p:blipFill>
        <p:spPr>
          <a:xfrm>
            <a:off x="5302080" y="5099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60443" descr=""/>
          <p:cNvPicPr/>
          <p:nvPr/>
        </p:nvPicPr>
        <p:blipFill>
          <a:blip r:embed="rId16"/>
          <a:stretch/>
        </p:blipFill>
        <p:spPr>
          <a:xfrm>
            <a:off x="7380360" y="5094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9410" descr=""/>
          <p:cNvPicPr/>
          <p:nvPr/>
        </p:nvPicPr>
        <p:blipFill>
          <a:blip r:embed="rId1"/>
          <a:stretch/>
        </p:blipFill>
        <p:spPr>
          <a:xfrm>
            <a:off x="119160" y="2128680"/>
            <a:ext cx="8905680" cy="2600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84360" y="2800440"/>
            <a:ext cx="223200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232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190440" y="790560"/>
            <a:ext cx="8763120" cy="52768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258920" y="13510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8375" descr=""/>
          <p:cNvPicPr/>
          <p:nvPr/>
        </p:nvPicPr>
        <p:blipFill>
          <a:blip r:embed="rId3"/>
          <a:stretch/>
        </p:blipFill>
        <p:spPr>
          <a:xfrm>
            <a:off x="966960" y="174780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987640" y="179244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5651640" y="221472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8378" descr=""/>
          <p:cNvPicPr/>
          <p:nvPr/>
        </p:nvPicPr>
        <p:blipFill>
          <a:blip r:embed="rId6"/>
          <a:stretch/>
        </p:blipFill>
        <p:spPr>
          <a:xfrm>
            <a:off x="965160" y="265896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2973240" y="270360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4788000" y="315108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8381" descr=""/>
          <p:cNvPicPr/>
          <p:nvPr/>
        </p:nvPicPr>
        <p:blipFill>
          <a:blip r:embed="rId9"/>
          <a:stretch/>
        </p:blipFill>
        <p:spPr>
          <a:xfrm>
            <a:off x="966960" y="355752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0"/>
          <a:stretch/>
        </p:blipFill>
        <p:spPr>
          <a:xfrm>
            <a:off x="2987640" y="360216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1"/>
          <a:stretch/>
        </p:blipFill>
        <p:spPr>
          <a:xfrm>
            <a:off x="1403280" y="522936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2"/>
          <a:stretch/>
        </p:blipFill>
        <p:spPr>
          <a:xfrm>
            <a:off x="3419640" y="5229360"/>
            <a:ext cx="3394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3"/>
          <a:stretch/>
        </p:blipFill>
        <p:spPr>
          <a:xfrm>
            <a:off x="6732720" y="5219640"/>
            <a:ext cx="33948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4"/>
          <a:stretch/>
        </p:blipFill>
        <p:spPr>
          <a:xfrm>
            <a:off x="900000" y="55897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5"/>
          <a:stretch/>
        </p:blipFill>
        <p:spPr>
          <a:xfrm>
            <a:off x="3708360" y="55897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6"/>
          <a:stretch/>
        </p:blipFill>
        <p:spPr>
          <a:xfrm>
            <a:off x="6227640" y="55990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7"/>
          <a:stretch/>
        </p:blipFill>
        <p:spPr>
          <a:xfrm>
            <a:off x="8513640" y="27082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8"/>
          <a:stretch/>
        </p:blipFill>
        <p:spPr>
          <a:xfrm>
            <a:off x="8388360" y="312264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9"/>
          <a:stretch/>
        </p:blipFill>
        <p:spPr>
          <a:xfrm>
            <a:off x="8494560" y="350028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0"/>
          <a:stretch/>
        </p:blipFill>
        <p:spPr>
          <a:xfrm>
            <a:off x="8388360" y="393372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1"/>
          <a:stretch/>
        </p:blipFill>
        <p:spPr>
          <a:xfrm>
            <a:off x="8513640" y="43498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2"/>
          <a:stretch/>
        </p:blipFill>
        <p:spPr>
          <a:xfrm>
            <a:off x="8504280" y="474336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3"/>
          <a:stretch/>
        </p:blipFill>
        <p:spPr>
          <a:xfrm>
            <a:off x="8504280" y="5157720"/>
            <a:ext cx="33984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4"/>
          <a:stretch/>
        </p:blipFill>
        <p:spPr>
          <a:xfrm>
            <a:off x="8604360" y="5589720"/>
            <a:ext cx="3394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3:54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